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248F-22DB-4AF5-A52F-73A3D7F5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58DE-2EA9-474A-BAD8-5B6E6F4C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C59D-4E81-4F5F-BC93-460B3DC8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14BA-8E3E-4071-BDD6-9535F9F6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84D2-2221-41A9-BFCE-0901179D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AA4B-C330-401C-95A4-086CE5DB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22C5-7C7A-417C-859C-8218B160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C6F6-342A-4B68-8E7B-BCA8F66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7363-5CCC-441C-9EAE-63AFC428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63A5-C0DC-4192-91F5-D63EBFD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3E60-96D8-4355-8F22-B74D455F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47F0-8788-4B13-B15B-F1EA9B89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DCB2-DE82-4A38-80E1-A7F8613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4CFC-3995-4268-B1E7-9B6DBD7B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B848-FF36-4EDE-990C-E1B80866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F701-E474-4D7E-97B8-3DD6B7E3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D11B-CB62-4EDB-8671-02551DAB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EB5C-83EE-4191-BA3F-CB0A0235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9C5D-CF6B-48A0-8D4C-71F02DEF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20FA-1914-4B9E-88C8-4E9E9FFD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0A57-63A5-4549-83FB-441E4733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5F7B-B8A4-4A0C-9681-E12D1947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99FE-D56D-4E33-8752-FA52E0C8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4EDF-BDC7-4E2E-9CB1-ED30F517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6A91-D877-4F38-974D-DA1B91AF242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BEE6-9A9A-46DD-AE66-05FE005C459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004760"/>
            <a:ext cx="89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6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к на царството, още ли спиш?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можеш да дремеш в тез времена?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буди се прилежно да работиш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волята на Изкупител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7172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к на царството, готов ли с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рона славна да носиш и ти?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ърд стой против греховете, спомни с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Господ страда и в край побе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68360" y="1904040"/>
            <a:ext cx="84247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Виж как човеците гинат без Бога,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без вяра в Словото на наший Спас;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но ще се стреснат те скоро в тревога,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кога Го видят във слава и власт!</a:t>
            </a:r>
            <a:r>
              <a:rPr b="0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59:23Z</dcterms:modified>
  <cp:revision>46</cp:revision>
  <dc:subject/>
  <dc:title>Slide 1</dc:title>
</cp:coreProperties>
</file>